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54A-F89F-45CD-9EAD-5691750E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D93-FE8C-4547-9327-92922734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747-00E0-4A3B-8EDC-011CDB1D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AD5-6EB1-40C3-AAE4-D4DE93F8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CE2-BAFE-4C0C-85A1-2759AF0F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0EC-B589-4712-942A-067202BA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CC0-9A63-4243-BBD4-C225732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839-5A1E-4B27-92A6-2CC405C5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F44-8B96-4217-967A-769F1EF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8E5-EF20-4C72-BAF7-0BC2F70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F83-3650-492A-9871-B35B1B1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58E-7176-49F5-AC4B-A725DDB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E07-8309-4442-B9EC-17D13121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 1, Clinton, Bush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56:13Z</dcterms:created>
  <dc:creator>School District U46</dc:creator>
  <dc:description/>
  <dc:language>en-US</dc:language>
  <cp:lastModifiedBy>School District U46</cp:lastModifiedBy>
  <dcterms:modified xsi:type="dcterms:W3CDTF">2010-05-25T11:56:19Z</dcterms:modified>
  <cp:revision>1</cp:revision>
  <dc:subject/>
  <dc:title>Domestic Policies</dc:title>
</cp:coreProperties>
</file>